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laser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3.jpeg" ContentType="image/jpeg"/>
  <Override PartName="/ppt/media/camera.wav" ContentType="audio/x-wav"/>
  <Override PartName="/ppt/media/image12.jpeg" ContentType="image/jpeg"/>
  <Override PartName="/ppt/media/cashreg.wav" ContentType="audio/x-wav"/>
  <Override PartName="/ppt/media/projctor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526-AF66-4D4C-BD0D-0AB7386B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959-18ED-4F95-A300-D05919F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DE4-B352-410A-937D-356BA2D0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4F6-6F72-4CC0-80AF-9A1D9A88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66FF-CAD8-48CC-BF5E-25ADE318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68E-4F30-4E86-ACCD-E8E2FEC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6C51-6B58-4815-B5AF-D20C78A2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6DFA-E151-4D8E-9E41-5F40B259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62A7-EEF0-44F3-9A56-07EA588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B789-A0CC-4154-99AA-88C9BAD5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4509-56A6-487F-8ADE-C349637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DEB-AB27-4647-A554-97F36DA9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F73A-0509-4E87-B0C5-00CAA155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259D-3453-4B63-A1A4-0EAA843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B38-1B60-4C47-A7DB-2402D1A1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56A3-1010-45E1-BA6B-EEF544F2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17E8-B6CB-4AFF-87C2-3E1E1CDC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970-4F41-4125-B018-60DEBB87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4D8-9C78-48E0-BCCE-555DA246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74F-58EB-4052-B763-323C908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B88-CABF-4590-9E2C-26955B97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32F-2C44-45C2-8DA5-CF03B1F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CE8-862C-458A-8176-B5A2062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1B2-36D8-4BEB-822F-D99C5E1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FABC-242C-416C-AB88-7D9523DEDFA4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C258-761D-45D3-94CE-500A2025C80D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8960" y="121932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makes a good advertis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0320" y="1828800"/>
            <a:ext cx="32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ke=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条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240" y="2286000"/>
            <a:ext cx="810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will make a good football play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d tea makes a good drink in sum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520" y="3581280"/>
            <a:ext cx="900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translated, it meant“x puts living thing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y hair.(=When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t wa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ransl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960" y="5173560"/>
            <a:ext cx="76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y don’t you make an answer when spoken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on’t go to the party unless inv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art with=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g  Today’s class started with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ttract / draw one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fe into dry hair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148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ving things into dry hair 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0"/>
            <a:ext cx="8534160" cy="9907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4  The Past Participle as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定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040" y="853920"/>
            <a:ext cx="604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Complete these sentences in your own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880" y="115884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Example: We lived in </a:t>
            </a:r>
            <a:r>
              <a:rPr b="1" i="1" lang="en-US" sz="2600" spc="-1" strike="noStrike">
                <a:solidFill>
                  <a:srgbClr val="ff0066"/>
                </a:solidFill>
                <a:latin typeface="Times New Roman"/>
              </a:rPr>
              <a:t>the house built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by my bro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7840" y="1595520"/>
            <a:ext cx="8211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1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telegram sent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by my sist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2.H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ompanion, blamed for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, had not be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driving carefu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3. You can take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new freeway ope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Nine of ten housewives interview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about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guns, stol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from _______________, were f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in the ho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ny medicine tak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without the advice of a doctor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7. We spent two hours discussing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ads prepared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8. He gave her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 beautiful gift desig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by 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8880" y="1600200"/>
            <a:ext cx="141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rg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360" y="1981080"/>
            <a:ext cx="187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cci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880" y="2743200"/>
            <a:ext cx="167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s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5480" y="3505320"/>
            <a:ext cx="22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re satisfi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5040" y="3930480"/>
            <a:ext cx="26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olice s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514980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 danger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943600"/>
            <a:ext cx="14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fi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4880" y="6292800"/>
            <a:ext cx="120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0574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treets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rowd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hop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upermarket                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very wel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op of the mountain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lin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re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se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factory visit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problems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agre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exciting programme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inju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 few people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fix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s article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settled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1   The Past Participle as Pred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cript MT Bold"/>
              </a:rPr>
              <a:t>（过去分词作表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3623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2286000"/>
            <a:ext cx="1371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352680"/>
            <a:ext cx="53316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114800"/>
            <a:ext cx="19810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95680"/>
            <a:ext cx="14479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952520"/>
            <a:ext cx="1600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09680" y="2819160"/>
            <a:ext cx="228600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840" y="143820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ake the sentences from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62520" y="4495320"/>
            <a:ext cx="5331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loud"/>
          <p:cNvSpPr/>
          <p:nvPr/>
        </p:nvSpPr>
        <p:spPr>
          <a:xfrm>
            <a:off x="-228600" y="0"/>
            <a:ext cx="9601200" cy="1295280"/>
          </a:xfrm>
          <a:prstGeom prst="pie">
            <a:avLst/>
          </a:prstGeom>
          <a:solidFill>
            <a:srgbClr val="1be6eb"/>
          </a:soli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2    The Past Participle as Object Complement   (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过去分词作宾语补足语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2860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 tried the idea out.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7960" y="1778040"/>
            <a:ext cx="9643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have printed 6,000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We are going to change the text of the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We shall fetch your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ugg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They have reviewed the whole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He is going to film a new advertis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60" y="2158920"/>
            <a:ext cx="69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6,000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int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80880" y="3048120"/>
            <a:ext cx="94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text of the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hang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all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luggage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etch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560" y="4800600"/>
            <a:ext cx="75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whole programm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view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0958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new advertisemen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ilm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 had the idea tri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3560" y="628560"/>
            <a:ext cx="8802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e must take some photographs of the micro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rs Baker does her hair every Friday aft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putting up new sh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7226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st hav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photograph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the microcomputer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aken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23720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rs Bake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her hai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don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every Friday after work.</a:t>
            </a:r>
            <a:r>
              <a:rPr b="1" i="1" lang="zh-CN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095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librari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 hav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new shelv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704880" y="0"/>
            <a:ext cx="678168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actice  3  The Past Participle as Adverbial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状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58840"/>
            <a:ext cx="904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We were disturbed by the noise and had to finish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eting ea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2209680"/>
            <a:ext cx="76212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960" y="1955880"/>
            <a:ext cx="827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isturb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by the noise, we had to finish the meeting ear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05720" y="2438280"/>
            <a:ext cx="9947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e was devoted to her mother and looked after her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She became tense when he was questioned about the mu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She was admired for her photography and was persuaded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oin the 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560" y="3168720"/>
            <a:ext cx="92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to her mother, she had to look after her for many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680" y="4191120"/>
            <a:ext cx="695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uestion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about the murder, she became t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11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dmir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for her photography, she was persuaded to join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83340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We were excited by the sales figures and decided to go out and celeb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 was shocked at the waste of money and decid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 th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e was persuaded by his friends to give up smoking and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87308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the sales figures, we decided to go out and celeb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oc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the waste of money, I decided to leave the compa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5759280"/>
            <a:ext cx="843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ersuad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his friends to give up smoking, he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838080"/>
            <a:ext cx="6172200" cy="14479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Script MT Bold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8480" y="2971800"/>
            <a:ext cx="651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Finish the workbook exerc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Revise the whole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4876920"/>
            <a:ext cx="3657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7115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华文行楷"/>
                <a:ea typeface="华文行楷"/>
              </a:rPr>
              <a:t>Thank you very much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133720" y="91440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181480" y="59436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5334120"/>
            <a:ext cx="960480" cy="560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48720" y="5867280"/>
            <a:ext cx="96048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810240" cy="198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049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0"/>
            <a:ext cx="79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038480"/>
            <a:ext cx="79214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makes a good adverti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206369_20038273162826937" descr=""/>
          <p:cNvPicPr/>
          <p:nvPr/>
        </p:nvPicPr>
        <p:blipFill>
          <a:blip r:embed="rId3"/>
          <a:stretch/>
        </p:blipFill>
        <p:spPr>
          <a:xfrm>
            <a:off x="0" y="1522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20041285428431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19920" y="2590920"/>
            <a:ext cx="11458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?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5384880"/>
            <a:ext cx="3200400" cy="147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6094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1.People read advertisements f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2.Advertisements often start with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 order to get the correc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3. Humour is very important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tis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4. It is possible for the reader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member the advertisement but no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 the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6720" y="1752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362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352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343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06369_20038273162826937" descr=""/>
          <p:cNvPicPr/>
          <p:nvPr/>
        </p:nvPicPr>
        <p:blipFill>
          <a:blip r:embed="rId2"/>
          <a:stretch/>
        </p:blipFill>
        <p:spPr>
          <a:xfrm>
            <a:off x="0" y="3808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20041285428431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523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335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362320"/>
            <a:ext cx="8991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  2&amp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48769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3505320"/>
            <a:ext cx="7696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danger in advert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bad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ransla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0666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1.Checking the translation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you are selling your product in a fo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2.The two sentences “X puts life into y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y hair.” and “X puts living things into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ir.” have the sam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)3. A British car company must chang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the car in German mark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360" y="1905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4800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" y="3352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-53352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76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2. Read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29628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cording to the text, most people read advertisements for: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nowledge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fun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killing time          D. both information and fun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Why do most advertisements begin with a question?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 Because nobody knows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 Because a question can make an advertisement funny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 Because readers will be interested in finding out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. Because a question will win more customers for a compan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75248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is very important in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question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umor.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 s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What is one of the dangers of a series of advertisements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Readers will be tired of reading too many tex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. Readers will lose patienc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Readers will forget the name of the product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D. Readers will forget the advertiseme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3800" y="137160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320" y="4754520"/>
            <a:ext cx="9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8600"/>
            <a:ext cx="8839080" cy="81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What may turn a good advertisement into a bad on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 ques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A stor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ad transla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he expensive price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6 .What would happen if the advertisement has no effect on sales after it is trie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searchers interview possible custom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The reasons for the failure must be found out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 advertisement is designed again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All of the above would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90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133720" y="228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Questions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299160" y="121932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 people read advertis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1752480"/>
            <a:ext cx="82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eople read advertisements partly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nd partly because they are intere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817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ompany wanted to say “X puts life into d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air”.But when translated it meant “X puts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ings into dry ha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4864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ritish name of the car meant “animal was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n Germ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mistakes was made in the translation   of the ad for hair c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76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istake was made in the car 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3:32:59Z</dcterms:created>
  <dc:creator>史文林</dc:creator>
  <dc:description/>
  <dc:language>en-US</dc:language>
  <cp:lastModifiedBy>w</cp:lastModifiedBy>
  <dcterms:modified xsi:type="dcterms:W3CDTF">2004-08-23T15:43:55Z</dcterms:modified>
  <cp:revision>84</cp:revision>
  <dc:subject/>
  <dc:title>PowerPoint 演示文稿</dc:title>
</cp:coreProperties>
</file>